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4AC-69B4-47CE-B4F0-AE1CEB97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AF9-3051-4819-B1D0-065F167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F3E-BBAC-4EBC-94A4-99233B55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9A7-1592-4E46-A034-0DE027D4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526-7E61-40F8-931D-83A629AA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F8C-2954-4539-9A18-8E86C40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2FF-FA2E-45C6-9441-78B49C3E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CA5-2174-40B6-A731-4AC69AC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838-EED8-41E1-98C0-EB65E77B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099-35CA-47CA-842E-41EECB9F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FFE-494D-4DF2-B6FC-0E94554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107-9C90-4C6F-A023-164269E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8877-3BAB-4316-AB01-4ABB85B1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teacher</cp:lastModifiedBy>
  <dcterms:modified xsi:type="dcterms:W3CDTF">2011-01-20T15:57:22Z</dcterms:modified>
  <cp:revision>5</cp:revision>
  <dc:subject/>
  <dc:title>Identifying the Elements of A Plot Diagram</dc:title>
</cp:coreProperties>
</file>